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5830-F519-4DAC-89D1-7984F4A0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take about five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FC6-A967-4731-9925-A99D1DFC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3FD-BC99-42D1-BB00-FF80B700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DDD-580F-4A84-A242-5BA5BCCD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29E-4F68-4FA2-BD72-24869FFF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B42-1970-441D-9389-E2628E27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AAA-9D25-49F9-BB48-ED51702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670-0029-4E25-A87C-D1A3EDD9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EAB-D938-4B61-8B50-90991FE3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68E-0B70-4EC6-8919-82738E2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6FC-DC17-42F6-AFF5-BC6014C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347-3132-4A53-8D74-595062BF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108-F030-40A0-9071-1E8BBF4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DC0-65BE-45DC-ADA4-8B42B79AB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dclay.k12.de.us/boardpolicy/7000/7001InstructionalGoalsandObjectives.pd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ary Science Curriculum Cou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ril 19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Data from La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Pair with your Paired Pre-test partner of question #3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Review the stack of index cards.  These are the needs and concerns placed on the charts by you during the last meet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Ask for clarification:  grade level, subject level, specific situation.  You need to understand the need or concern as it relates to the whole Science Curriculum Cou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your partn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the index cards from top to bottom.  Top will be the issue the Science Curriculum Council needs to address as soon as possible.  Bottom will be least urg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ioritizing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k of the entire K-12 learning community, not just your own content area, grade, or school.  Also, remember that the Science Curriculum Council will ultimately be considering elementary science concern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 out—what are the top 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with your partner, choose one of these concerns or needs and answer the following three question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the Curriculum Council make a decision (to move to the Cabinet) or draft a position statement about thi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plish the product of question 1, what issues must be considered?  Be specific and try to consider as many issues as possi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primary stakeholders of this 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ving toward a solution.  Using the same need or concern, answer the following question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ittee to work on this question.  Who?  How man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search needs to be don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rts of the solution will cost money?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final product be presented?  To wh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s and Bo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:  How do we decide?  (Remember, the Co-chair will represent the Elementary Curriculum Council and will sit on the Curriculum Cabine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cil membership—do we nominate and vote on member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:  show of hands, “signify by saying ‘aye,’” or secret ballo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new business—how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—how long do we deliberate over a deci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will the Curriculum Council system be used to address, analyze, and resolve concerns related to science curriculum, instruction, assessment, and professional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urriculum Council System—a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Red Clay’s CIA-P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ecision Making Proces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d Policy 7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6000">
                <a:solidFill>
                  <a:srgbClr val="000000"/>
                </a:solidFill>
                <a:latin typeface="Arial"/>
              </a:rPr>
              <a:t>It is the policy of the Board that the Superintendent shall have the overall responsibility for implementing State- and District-adopted content standards into the instructional programs of all District school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The District will be engaged in a continuous process of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revising curriculum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and programs of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to align with the content standards;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2. identifying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grade-level assessments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which will measure each student’s progress toward achievement of the content standards;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3. focusing on staff’s understanding of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brain-based research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and the impact on student learning;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extending outreach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to Red Clay families in an effort to help each student meet or exceed the content standar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248520"/>
            <a:ext cx="8458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redclay.k12.de.us/boardpolicy/7000/7001InstructionalGoalsandObjectiv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Council Flow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5146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791320"/>
            <a:ext cx="6781680" cy="533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5181480"/>
            <a:ext cx="289548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181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-12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191120"/>
            <a:ext cx="609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4191120"/>
            <a:ext cx="609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91120"/>
            <a:ext cx="609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IPL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191120"/>
            <a:ext cx="609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191120"/>
            <a:ext cx="6858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3200400"/>
            <a:ext cx="761760" cy="838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1360" y="34290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ICULUM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5200" y="256716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INT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2200" y="17287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ARD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905120"/>
            <a:ext cx="485640" cy="4114800"/>
          </a:xfrm>
          <a:prstGeom prst="upArrow">
            <a:avLst>
              <a:gd name="adj1" fmla="val 50000"/>
              <a:gd name="adj2" fmla="val 211824"/>
            </a:avLst>
          </a:prstGeom>
          <a:solidFill>
            <a:srgbClr val="bbe0e3"/>
          </a:solidFill>
          <a:ln w="57240">
            <a:solidFill>
              <a:srgbClr val="ff19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 Curriculum Council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Decision-Mak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Ends ad hoc, random, arbitrary, chaotic approaches to CIA-P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Assures alignment of CIA-PD decis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The Curriculum Council process is the </a:t>
            </a:r>
            <a:r>
              <a:rPr b="0" lang="en-US" sz="4000" spc="-1" strike="noStrike" baseline="6000">
                <a:solidFill>
                  <a:srgbClr val="ff194a"/>
                </a:solidFill>
                <a:latin typeface="Arial"/>
              </a:rPr>
              <a:t>ONLY</a:t>
            </a: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 place to address issues related </a:t>
            </a:r>
            <a:r>
              <a:rPr b="0" i="1" lang="en-US" sz="4000" spc="-1" strike="noStrike" u="sng" baseline="6000">
                <a:solidFill>
                  <a:srgbClr val="000000"/>
                </a:solidFill>
                <a:uFillTx/>
                <a:latin typeface="Arial"/>
              </a:rPr>
              <a:t>in any way</a:t>
            </a: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 to CIA-PD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Implements Board Policy 7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iculum Council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6000">
                <a:solidFill>
                  <a:srgbClr val="000000"/>
                </a:solidFill>
                <a:uFillTx/>
                <a:latin typeface="Arial"/>
              </a:rPr>
              <a:t>Curriculum</a:t>
            </a:r>
            <a:r>
              <a:rPr b="0" lang="en-US" sz="3600" spc="-1" strike="noStrike" baseline="6000">
                <a:solidFill>
                  <a:srgbClr val="000000"/>
                </a:solidFill>
                <a:latin typeface="Arial"/>
              </a:rPr>
              <a:t> - What do students need to  know and be able to do and in what sequence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6000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36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baseline="6000">
                <a:solidFill>
                  <a:srgbClr val="000000"/>
                </a:solidFill>
                <a:latin typeface="Arial"/>
              </a:rPr>
              <a:t>- Which instructional strategies and environments produce optimal outcomes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6000">
                <a:solidFill>
                  <a:srgbClr val="000000"/>
                </a:solidFill>
                <a:uFillTx/>
                <a:latin typeface="Arial"/>
              </a:rPr>
              <a:t>Assessment</a:t>
            </a:r>
            <a:r>
              <a:rPr b="0" lang="en-US" sz="3600" spc="-1" strike="noStrike" baseline="6000">
                <a:solidFill>
                  <a:srgbClr val="000000"/>
                </a:solidFill>
                <a:latin typeface="Arial"/>
              </a:rPr>
              <a:t> -  How will teachers measure student achievement and how will it be reported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6000">
                <a:solidFill>
                  <a:srgbClr val="000000"/>
                </a:solidFill>
                <a:uFillTx/>
                <a:latin typeface="Arial"/>
              </a:rPr>
              <a:t>Professional Development</a:t>
            </a:r>
            <a:r>
              <a:rPr b="0" lang="en-US" sz="3600" spc="-1" strike="noStrike" baseline="6000">
                <a:solidFill>
                  <a:srgbClr val="000000"/>
                </a:solidFill>
                <a:latin typeface="Arial"/>
              </a:rPr>
              <a:t> - What skills and knowledge do the instructional staff need  to better meet student nee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urriculum Council Defining </a:t>
            </a:r>
            <a:r>
              <a:rPr b="0" i="1" lang="en-US" sz="39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Research-Based</a:t>
            </a:r>
            <a:r>
              <a:rPr b="0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– Council recommendations must be accompanied by eviden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Inclusive Representation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 - teachers, principals, district office, Superintendent, and the Board of Educ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Open</a:t>
            </a:r>
            <a:r>
              <a:rPr b="1" lang="en-US" sz="32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- meetings are public; minutes are distributed; votes are recor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K-12, All Schools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 – issues are considered in the context of a K-12 district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iculum Cabi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Cabinet Representatives a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Co-chairs of each council – teacher an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Principals – elementary, middle,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Special Education and ELL administrative representativ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A Super-Majority vote (75 % of Cabinet) is required in order to forward recommendations to the Boar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The Cabinet </a:t>
            </a:r>
            <a:r>
              <a:rPr b="0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prioritizes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 funding for CIA-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3:00:10Z</dcterms:created>
  <dc:creator>Edward McGrath</dc:creator>
  <dc:description/>
  <dc:language>en-US</dc:language>
  <cp:lastModifiedBy>Edward McGrath</cp:lastModifiedBy>
  <dcterms:modified xsi:type="dcterms:W3CDTF">2010-04-19T18:35:26Z</dcterms:modified>
  <cp:revision>10</cp:revision>
  <dc:subject/>
  <dc:title>Secondary Science Curriculum Council</dc:title>
</cp:coreProperties>
</file>